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131050" cy="9417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F0F-3555-4A1E-B6F7-9C196A3D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848-E2A7-4B57-9E6A-CCD40F1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DFF-C6B4-48D1-8F9D-4A3FF6D0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8444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4280" y="2720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8444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34280" y="5672520"/>
            <a:ext cx="195192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94F-B6C4-4805-9D7A-39A727C8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9EF-6057-4FF3-9000-2787B82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AC9-FFC9-462C-96D8-B8E449C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051-6542-4A53-8839-BD29DE11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39D-16E0-4AE5-9B64-FAD040E4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836280"/>
            <a:ext cx="6062760" cy="72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B76-D38D-464D-A5E5-890CBD21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31D-C0BD-4E1A-AB13-B1AE71D4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41400" y="5672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37-6038-485A-BCE2-8C310D02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400" y="2720520"/>
            <a:ext cx="295848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5672520"/>
            <a:ext cx="6062760" cy="269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F3B-4DAA-4CED-9F34-6E36BFD0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836280"/>
            <a:ext cx="6062760" cy="1569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2720520"/>
            <a:ext cx="6062760" cy="5651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3880" indent="-3538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27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6480" y="8582040"/>
            <a:ext cx="225900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11640" y="8582040"/>
            <a:ext cx="1486080" cy="627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D20-0CB7-48D4-8382-5228D08FE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5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Text Box 9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13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4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5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24"/>
          <p:cNvGraphicFramePr/>
          <p:nvPr/>
        </p:nvGraphicFramePr>
        <p:xfrm>
          <a:off x="689040" y="2075040"/>
          <a:ext cx="6392880" cy="17049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6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9040" y="207504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Line 2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1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4529160" y="235080"/>
          <a:ext cx="243360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9160" y="235080"/>
                    <a:ext cx="243360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Butterfli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Insect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ins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11"/>
          <p:cNvGraphicFramePr/>
          <p:nvPr/>
        </p:nvGraphicFramePr>
        <p:xfrm>
          <a:off x="4038480" y="8110440"/>
          <a:ext cx="2433600" cy="130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2"/>
          <p:cNvGraphicFramePr/>
          <p:nvPr/>
        </p:nvGraphicFramePr>
        <p:xfrm>
          <a:off x="838080" y="8110440"/>
          <a:ext cx="2433600" cy="130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8110440"/>
                    <a:ext cx="243360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13"/>
          <p:cNvSpPr/>
          <p:nvPr/>
        </p:nvSpPr>
        <p:spPr>
          <a:xfrm>
            <a:off x="609480" y="8001000"/>
            <a:ext cx="28544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3886200" y="8001000"/>
            <a:ext cx="2852640" cy="141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962520" y="76201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5"/>
          <p:cNvGraphicFramePr/>
          <p:nvPr/>
        </p:nvGraphicFramePr>
        <p:xfrm>
          <a:off x="836640" y="2347920"/>
          <a:ext cx="5549760" cy="13176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93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2347920"/>
                    <a:ext cx="554976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7"/>
          <p:cNvSpPr/>
          <p:nvPr/>
        </p:nvSpPr>
        <p:spPr>
          <a:xfrm>
            <a:off x="1204920" y="349092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6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7"/>
          <p:cNvSpPr/>
          <p:nvPr/>
        </p:nvSpPr>
        <p:spPr>
          <a:xfrm>
            <a:off x="1822320" y="1647720"/>
            <a:ext cx="2853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523880" y="35053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 2      3     4      5      6      7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21"/>
          <p:cNvGraphicFramePr/>
          <p:nvPr/>
        </p:nvGraphicFramePr>
        <p:xfrm>
          <a:off x="976320" y="2043000"/>
          <a:ext cx="6392880" cy="17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6320" y="2043000"/>
                    <a:ext cx="63928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Line 22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5" descr="BD07377_[1]"/>
          <p:cNvPicPr/>
          <p:nvPr/>
        </p:nvPicPr>
        <p:blipFill>
          <a:blip r:embed="rId5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BD07377_[1]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BD07377_[1]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0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58760" y="392040"/>
            <a:ext cx="4280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Scientist_____________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54040" y="941400"/>
            <a:ext cx="364644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Camouflag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(Birds and worm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5"/>
          <p:cNvGraphicFramePr/>
          <p:nvPr/>
        </p:nvGraphicFramePr>
        <p:xfrm>
          <a:off x="-5154480" y="3048120"/>
          <a:ext cx="471168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54480" y="3048120"/>
                    <a:ext cx="471168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1890720" y="1738440"/>
            <a:ext cx="277668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Worm Grap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4343400"/>
            <a:ext cx="649764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mo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caught the least____________________w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6280" y="6435720"/>
            <a:ext cx="5943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28600" y="5562720"/>
            <a:ext cx="657684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Camouflage Mean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Comic Sans MS"/>
              </a:rPr>
              <a:t>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95440" y="7529400"/>
            <a:ext cx="286848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71800" y="7529400"/>
            <a:ext cx="2867040" cy="188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09480" y="7620120"/>
            <a:ext cx="2616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948120" y="7605720"/>
            <a:ext cx="2852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NO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mouflag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380880" y="4267080"/>
            <a:ext cx="55627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057400" y="4419720"/>
            <a:ext cx="3581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1357200" y="3110040"/>
            <a:ext cx="47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      2     3     4     5     6    7     8    9    10    11    12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2438280" y="5638680"/>
            <a:ext cx="4267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304920" y="624852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304920" y="67816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1" descr="BD07377_[1]"/>
          <p:cNvPicPr/>
          <p:nvPr/>
        </p:nvPicPr>
        <p:blipFill>
          <a:blip r:embed="rId3">
            <a:grayscl/>
          </a:blip>
          <a:stretch/>
        </p:blipFill>
        <p:spPr>
          <a:xfrm>
            <a:off x="5014800" y="290520"/>
            <a:ext cx="1800360" cy="1485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2" descr="BD07377_[1]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4329000" y="7932600"/>
            <a:ext cx="1800360" cy="14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BD07377_[1]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1281240" y="7932600"/>
            <a:ext cx="1800000" cy="1486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4"/>
          <p:cNvSpPr/>
          <p:nvPr/>
        </p:nvSpPr>
        <p:spPr>
          <a:xfrm rot="5359800">
            <a:off x="5088960" y="755784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Cheryl Arford,Edmonds School Di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052640" y="341460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umber of W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7"/>
          <p:cNvSpPr/>
          <p:nvPr/>
        </p:nvSpPr>
        <p:spPr>
          <a:xfrm rot="16200000">
            <a:off x="-371880" y="2629080"/>
            <a:ext cx="20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 of 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29"/>
          <p:cNvGraphicFramePr/>
          <p:nvPr/>
        </p:nvGraphicFramePr>
        <p:xfrm>
          <a:off x="976320" y="2271600"/>
          <a:ext cx="5514840" cy="1308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4" name="Object 2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6320" y="2271600"/>
                    <a:ext cx="551484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0:13:17Z</dcterms:created>
  <dc:creator>Preferred Customer</dc:creator>
  <dc:description/>
  <dc:language>en-US</dc:language>
  <cp:lastModifiedBy>Mark Roddy</cp:lastModifiedBy>
  <cp:lastPrinted>2013-12-30T18:22:30Z</cp:lastPrinted>
  <dcterms:modified xsi:type="dcterms:W3CDTF">2015-09-28T19:03:00Z</dcterms:modified>
  <cp:revision>13</cp:revision>
  <dc:subject/>
  <dc:title>No Slide Title</dc:title>
</cp:coreProperties>
</file>